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CA27E-42A2-4ECE-8983-C63ECD2A2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B61BC-53F2-47D0-A641-C529F6F6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0C9AB-D0B8-413E-9B11-9D84F5FE6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8B9EB-D853-4093-BE75-EEBCD6D03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AF1F-FB36-4F23-8EFF-181F2C44D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D558-DCEE-463E-8BD5-CE47B9BD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84C4-66E7-4218-B934-5AE67491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5713-154E-4F19-96CE-B6D2FB8F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880F-8D92-47C3-ACD3-E32B2C2D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40B3-B77B-438E-8722-65E5A41C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C5F6-00C3-42E6-9350-079362A5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F15ED-BE52-4735-BC95-DF5340DB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10A3-50FF-4007-8727-8A36B4CB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E3DD-6CE2-42FE-9CCE-3D9352FD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B0D0-FBC2-4218-B02B-6E2FEE4A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C8EA-532E-43DA-8D34-CB7CF489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4004-3325-4CDA-B0AD-29C8986F7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33906-51DE-4620-B8C6-DBDB64F3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A636E-2E9C-4115-A8E9-05EF1E5A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58A4E-0592-43F2-8D49-8F003B35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46042-0701-4F34-BB7A-96A56B0C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848B9-3D9E-4571-908B-BF3A42A7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CB3A7-1C90-4F92-8438-744ABAA5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C6233-D414-4E16-9562-29F04D7C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AADE-D317-44A4-8F67-1820F48FCD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6592-1440-4209-9186-BEEAA90AEC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.wsj.net/public/resources/documents/info-NEGATIVE_EQUITY_0911.html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352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IN DEEP:                          UNDERWATER BORROWER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520" y="719280"/>
            <a:ext cx="8001000" cy="22795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1295280"/>
            <a:ext cx="8076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Nearly 10.7 million U.S. households,     or about 23% of                            homeowners with mortgages,                    had negative equity                                     in the third quarter (2009),                   according to                                         First American Home CoreLogic,                     a real estate information company  based in Santa Ana, Californ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013520" cy="4449600"/>
          </a:xfrm>
          <a:prstGeom prst="rect">
            <a:avLst/>
          </a:prstGeom>
          <a:ln w="38160">
            <a:solidFill>
              <a:srgbClr val="ffffcc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3048120" y="54100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LIN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0880" y="2209680"/>
            <a:ext cx="8382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PO Box 17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Casar NC 280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704.418.2628 (Max Direc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www.maxbankruptcybootcamp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www.maxgardnerlaw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maxgardner@maxgardner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53352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Max Gardner’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Bankruptcy Boot Cam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7:43:05Z</dcterms:created>
  <dc:creator> </dc:creator>
  <dc:description/>
  <dc:language>en-US</dc:language>
  <cp:lastModifiedBy> </cp:lastModifiedBy>
  <dcterms:modified xsi:type="dcterms:W3CDTF">2011-01-02T18:30:48Z</dcterms:modified>
  <cp:revision>4</cp:revision>
  <dc:subject/>
  <dc:title>Max Gardner on Bloomberg Radio Market Minute</dc:title>
</cp:coreProperties>
</file>